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3A1-FA30-4ED9-843B-4AA46604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432-FDFE-4A1F-B481-AAB240D7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F88-8782-45C1-AE7D-338DDED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C31-B9B4-4DE9-B32B-274B20E9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B51-B0CF-4B06-AC96-8B547392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B99-C5E6-4248-9B7B-02C98DC7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3E9-0358-40C2-AD33-AAAE5D32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282-8679-4031-9903-3244560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3E8-6524-4E64-B211-7F8125BC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EE1-D2BF-4F44-BA33-06947BF1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54B-0880-4D1C-95C3-E2D26BF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13B-FEC2-41F0-8918-DFD67131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D7B7-7B96-4B05-8E48-C531FADB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aspberry&amp;usg=ALkJrhgQ3zZW4g8mZYDF7JLgLLuv-v_Ycw" TargetMode="External"/><Relationship Id="rId4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&amp;usg=ALkJrhgVhKpNdVy0LgY7FhRnsFfzgthHFw" TargetMode="External"/><Relationship Id="rId5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Europe&amp;usg=ALkJrhgrO_3KePL2ro-6NklNnhde3Z4sPg" TargetMode="External"/><Relationship Id="rId6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Asia&amp;usg=ALkJrhi1gqEiytxnarClGy7Hcxv5XjuQYA" TargetMode="External"/><Relationship Id="rId7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fe-0" TargetMode="External"/><Relationship Id="rId8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grin-1" TargetMode="External"/><Relationship Id="rId9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North_America&amp;usg=ALkJrhhLT3GQuY0lxtfjHoqBRiPji30v3A" TargetMode="External"/><Relationship Id="rId10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Variety_%28biology%29&amp;usg=ALkJrhjbC-Gv7tUlqkuZB8XmaB4RyQoMbg" TargetMode="External"/><Relationship Id="rId11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2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(zmeur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cazional,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uropean de zmeură, Framboise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pur şi simplu,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meur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), este o specie de culoare roşie-fructe de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nativ pentru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Nord şi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i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de obicei cultivat în alte regiuni tempera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2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 instalaţie de strâns legate, în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erica de Nor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, uneori considerate ca fiind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i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este mult mai frecvent tratate ca specie, distinc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gosus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American zmeura), cum se face aici. [3] Red-fructe zmeura cultivate, chiar şi în America de Nord, sunt, în general,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derivaţi horticole de hibrizi de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ceste plante sunt toate abordate în prezentul arti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&amp;scedil;ier: Malina.jpg"/>
          <p:cNvPicPr/>
          <p:nvPr/>
        </p:nvPicPr>
        <p:blipFill>
          <a:blip r:embed="rId14"/>
          <a:stretch/>
        </p:blipFill>
        <p:spPr>
          <a:xfrm>
            <a:off x="457200" y="1600200"/>
            <a:ext cx="37339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5"/>
          <a:stretch/>
        </p:blipFill>
        <p:spPr>
          <a:xfrm>
            <a:off x="4648320" y="1600200"/>
            <a:ext cx="4038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2:16Z</dcterms:created>
  <dc:creator>Elev</dc:creator>
  <dc:description/>
  <dc:language>en-US</dc:language>
  <cp:lastModifiedBy>Elev</cp:lastModifiedBy>
  <dcterms:modified xsi:type="dcterms:W3CDTF">2012-06-18T10:29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